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0364-D60B-45C6-A554-93864CA5A7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EEB-BBC0-4BA6-9F49-1B171661EC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9B37-D054-4FE9-B88A-C4A7CD330CB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C334-0D58-4CF4-8E2F-D39F67C302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0236-2EAF-40F0-9B41-904566E41E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1C38-FEED-4FBD-9893-647464D801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9D8B-D6CA-4E13-BDEB-6C82E96B0B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D113-3D98-4237-8962-C2CF4D0BB8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EEF-2839-421F-BEC0-18B3B6A1818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0745-94B9-4272-92C0-D5D2D947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E1A-74D1-4C46-8155-1E6A0B0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536-7179-4808-8BE7-516BA41A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EF5-6462-443E-8447-C28DC5BC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9BD4-3F0B-43D9-B5E5-A8B95400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4878-C29D-4D27-8C3D-587A942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978A-F484-4070-ADBC-3B7A73B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1C18-20A0-4480-A9F4-855BD03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E058-48E3-423C-AE2C-1BF30A7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562A-65DD-40AB-8DFD-B15A321B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016C-DA70-424E-9FBD-922DA85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17E-E1D4-491E-8733-539475F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8301-8D7C-4FA7-9F84-D3BF1C45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7DB5-9223-47BC-8987-BA3D1AD1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DA42-9157-41F3-8A83-086BD3A4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4550-38F5-4B18-9046-E7C831D0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EF1-6E65-4CCC-A6BC-58B5F927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5E7D-0A43-490B-A1A4-D16CF0CC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E726-2928-4118-8D3D-66F61E17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41968-EBBE-4187-97A6-2FA20AEC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157F-4AAE-4EB9-92FC-08AF5AC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0CC9-1F75-4BCF-83C2-8DFD8A15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D68-A434-4856-9B94-6F65F5E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C9148-AFFA-4FA5-B235-AF9B3A2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0912-8DB7-400F-905F-AA97FA7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51BE-37FF-4E1D-B671-76C0F782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525FC-D143-4EA1-954B-60B791C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B423-66F1-45C9-9F1A-DE1CEACC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4F5E-21BC-4B3B-A0FD-B9442325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191F-A692-483D-AC8B-F78E5809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53C0-B098-4376-B9A2-A6B0D94B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97B5-0D5C-429D-B3BC-A97EA0CE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26C6A-C694-4E78-A452-31E04178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926-B29E-48E4-94F3-000D2DE6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B910-898F-4254-9F38-287442E1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5700-EAEA-4FDC-8F45-FB71CBC7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20FB-E3F0-4228-AEFE-4CFE2338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AA7D-7065-4469-BA33-2A668280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28A8-94A4-4DB6-AB48-2D41C4D5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D4378-E527-4233-9977-493867E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F6B8-9F3C-470D-A150-0234026B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6FB9-50D7-4521-AFF1-5E93A4A5A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4F74-DC55-43C5-B3BA-32DB9EA5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4ABC0-A863-4ABF-ACF5-28127068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4D0-D618-416A-B3A6-0F4F77AA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F1944-A6A3-44C4-9059-83CB5C0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5A1E-1952-4BBC-ACA6-C9051C25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E2C3-5644-4AFD-B29B-63DA1FD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085B6-8108-438F-85F9-19670170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4234-7601-424E-9D0F-62F8E20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1FFEE-B1FD-4ED0-B75A-170A7D05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8079-E865-4C93-BFD0-BEEA5E8C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49637-3DF7-482E-8E83-F0DABEE9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37D46-36C0-477C-86E2-0F83FA1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689E-63E3-4944-B529-731F44D2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246-ED0E-4E13-85DF-7B6E6E56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96A5F-54AC-42A1-B80E-6B87EFC5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59BD-9E34-4228-8F10-0494F04D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D4295-FCF2-432F-96C1-B9E7D5E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697A-250F-47A0-8313-015FCF5B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D69EA-F5D4-4082-9276-2592328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0F5E-9F53-49A5-BEEC-C030C234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1D9F-71D1-4CBF-996B-C934E77D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D37C8-8794-405E-B1F9-489A6025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5A51E-C435-4317-A9CE-D2DAF8B6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C7920-28B5-48F6-B5AF-6E96490E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0F3-58CD-4EF1-AC57-7E991F9A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1242D-15DF-4A00-B873-3C71F39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3E615-3458-417C-B067-7A54D049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E59D-D626-4062-957B-BA0BD943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B2D-324F-4859-BBD9-326B3A2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74-5E36-4336-8A1F-92DEAF3F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716-9B5C-4A43-BA6B-8BC3AE4D7C3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68F-1ED0-4D01-8CF4-BA1040B7EBC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A156-1B79-42C0-A5B5-1043F6CE04C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C1BD-5E41-4DE3-B2B3-D97217DA51E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9508-4AAE-497C-9E13-FD310289E39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49A7-7521-44B5-A2BB-B48BFC8AD94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C9C-88FC-4AEC-BF8A-B3C17A5CAA8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43DE-923D-4E93-9ECF-8976C8704C2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82E8-5B50-4254-A990-53A64E75455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6E74-5F11-42F0-9039-DF0096499B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C53D-7DD9-4FA8-B622-DC74C90BA54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B260-55EF-4DDA-86D2-88DE36E06DA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cgepmps@previd&#234;ncia.gov.b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1413000"/>
            <a:ext cx="103633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828440" y="501300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Brasília, dezembro de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6"/>
          <p:cNvSpPr/>
          <p:nvPr/>
        </p:nvSpPr>
        <p:spPr>
          <a:xfrm>
            <a:off x="550800" y="692280"/>
            <a:ext cx="110901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opulação desprotegida por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9"/>
          <p:cNvSpPr/>
          <p:nvPr/>
        </p:nvSpPr>
        <p:spPr>
          <a:xfrm>
            <a:off x="353880" y="5877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Gráfico 4" descr=""/>
          <p:cNvPicPr/>
          <p:nvPr/>
        </p:nvPicPr>
        <p:blipFill>
          <a:blip r:embed="rId1"/>
          <a:stretch/>
        </p:blipFill>
        <p:spPr>
          <a:xfrm>
            <a:off x="1652760" y="1577880"/>
            <a:ext cx="888660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Homens desprotegido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tângulo 4"/>
          <p:cNvSpPr/>
          <p:nvPr/>
        </p:nvSpPr>
        <p:spPr>
          <a:xfrm>
            <a:off x="2610000" y="6093000"/>
            <a:ext cx="8526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Gráfico 5" descr=""/>
          <p:cNvPicPr/>
          <p:nvPr/>
        </p:nvPicPr>
        <p:blipFill>
          <a:blip r:embed="rId1"/>
          <a:stretch/>
        </p:blipFill>
        <p:spPr>
          <a:xfrm>
            <a:off x="1274760" y="1914480"/>
            <a:ext cx="9356760" cy="41814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Mulheres desprotegidas com capacidade contributiva por posição na ocup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353880" y="6093000"/>
            <a:ext cx="1078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Gráfico 6" descr=""/>
          <p:cNvPicPr/>
          <p:nvPr/>
        </p:nvPicPr>
        <p:blipFill>
          <a:blip r:embed="rId1"/>
          <a:stretch/>
        </p:blipFill>
        <p:spPr>
          <a:xfrm>
            <a:off x="1920960" y="1627200"/>
            <a:ext cx="84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amento de atividade trabalho principal da população desprotegidas com capacidade contribu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055520" y="1824120"/>
          <a:ext cx="9596520" cy="4425840"/>
        </p:xfrm>
        <a:graphic>
          <a:graphicData uri="http://schemas.openxmlformats.org/drawingml/2006/table">
            <a:tbl>
              <a:tblPr/>
              <a:tblGrid>
                <a:gridCol w="2948040"/>
                <a:gridCol w="1330560"/>
                <a:gridCol w="1328760"/>
                <a:gridCol w="1330200"/>
                <a:gridCol w="1328760"/>
                <a:gridCol w="1330200"/>
              </a:tblGrid>
              <a:tr h="795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Grupamento de atividade trabalho princi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os Hom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% das Mulhe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mércio, reparação de veículos automotores e motocicle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681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91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1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473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onstru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47.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9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7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375.6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formação, comunicação e atividades financeiras, imobiliárias, profissionais e administrativ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42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5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48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Indústria g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18.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18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8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036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Outros Serviç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67.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12.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4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980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Serviços domést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7.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03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2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80.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ransporte, armazenagem e correi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88.0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0.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9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lojamento e alimentação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23.6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5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06.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30.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gricultura, pecuária, produção florestal, pesca e aquicultu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657.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8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8.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06.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Educação, saúde humana e serviços soci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2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52.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4.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dministração pública, defesa e seguridade social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4.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2.7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Atividades mal definid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.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7.913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3.621.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11.535.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sexo e 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Gráfico 4" descr=""/>
          <p:cNvPicPr/>
          <p:nvPr/>
        </p:nvPicPr>
        <p:blipFill>
          <a:blip r:embed="rId1"/>
          <a:stretch/>
        </p:blipFill>
        <p:spPr>
          <a:xfrm>
            <a:off x="1700280" y="1914480"/>
            <a:ext cx="9217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34800" y="620640"/>
            <a:ext cx="115221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regi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Gráfico 4" descr=""/>
          <p:cNvPicPr/>
          <p:nvPr/>
        </p:nvPicPr>
        <p:blipFill>
          <a:blip r:embed="rId1"/>
          <a:stretch/>
        </p:blipFill>
        <p:spPr>
          <a:xfrm>
            <a:off x="500040" y="1362240"/>
            <a:ext cx="1025532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263520" y="981000"/>
            <a:ext cx="1152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antitativo de desprotegidos com capacidade contributiva por renda em Salários Mínimos (S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Gráfico 4" descr=""/>
          <p:cNvPicPr/>
          <p:nvPr/>
        </p:nvPicPr>
        <p:blipFill>
          <a:blip r:embed="rId1"/>
          <a:stretch/>
        </p:blipFill>
        <p:spPr>
          <a:xfrm>
            <a:off x="474840" y="1500120"/>
            <a:ext cx="105422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334800" y="69228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escolaridade e se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874800" y="2028960"/>
          <a:ext cx="10442520" cy="3935160"/>
        </p:xfrm>
        <a:graphic>
          <a:graphicData uri="http://schemas.openxmlformats.org/drawingml/2006/table">
            <a:tbl>
              <a:tblPr/>
              <a:tblGrid>
                <a:gridCol w="5211720"/>
                <a:gridCol w="1743120"/>
                <a:gridCol w="1743120"/>
                <a:gridCol w="1744560"/>
              </a:tblGrid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 Light"/>
                        </a:rPr>
                        <a:t>Curso mais elevado que frequento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-esc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e alfabetização -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betização de jovens e adul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primário (element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ginásio (médio 1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fundamental ou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1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o científico, clássico, etc. (médio 2º cicl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do ensino médio ou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 de jovens e adultos (EJA) ou supletivo do 2º gr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ior - gradu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zação de nível superi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t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to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53880" y="907920"/>
            <a:ext cx="115221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ercentual de desprotegidos com capacidade contributiva por sexo e raça/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055520" y="2637000"/>
          <a:ext cx="9720360" cy="2808000"/>
        </p:xfrm>
        <a:graphic>
          <a:graphicData uri="http://schemas.openxmlformats.org/drawingml/2006/table">
            <a:tbl>
              <a:tblPr/>
              <a:tblGrid>
                <a:gridCol w="2430720"/>
                <a:gridCol w="2430360"/>
                <a:gridCol w="2428920"/>
                <a:gridCol w="2430360"/>
              </a:tblGrid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xo/Raç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ta/Pa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9cc2e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6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93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 w="5760">
                      <a:solidFill>
                        <a:srgbClr val="9cc2e5"/>
                      </a:solidFill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9cc2e5"/>
                      </a:solidFill>
                    </a:lnL>
                    <a:lnR>
                      <a:noFill/>
                    </a:lnR>
                    <a:lnT w="5760">
                      <a:solidFill>
                        <a:srgbClr val="9cc2e5"/>
                      </a:solidFill>
                    </a:lnT>
                    <a:lnB w="5760">
                      <a:solidFill>
                        <a:srgbClr val="9cc2e5"/>
                      </a:solidFill>
                    </a:lnB>
                    <a:solidFill>
                      <a:srgbClr val="deea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9"/>
          <p:cNvSpPr/>
          <p:nvPr/>
        </p:nvSpPr>
        <p:spPr>
          <a:xfrm>
            <a:off x="353880" y="6243480"/>
            <a:ext cx="10784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onte: Microdados da PNADC/IBGE 20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aboração: CGEPR/SPPS/M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53880" y="907920"/>
            <a:ext cx="1152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Subsecretaria de Regime Geral de Previdência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Coordenação-Geral de Estudos Previdenciá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9454c3"/>
                </a:solidFill>
                <a:uFillTx/>
                <a:latin typeface="Calibri"/>
                <a:hlinkClick r:id="rId1"/>
              </a:rPr>
              <a:t>cgepmps@previdencia.gov.b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2021-5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9880" y="2420640"/>
            <a:ext cx="10362960" cy="24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tângulo de cantos arredondados 53"/>
          <p:cNvSpPr/>
          <p:nvPr/>
        </p:nvSpPr>
        <p:spPr>
          <a:xfrm>
            <a:off x="627120" y="2781360"/>
            <a:ext cx="3940200" cy="3941640"/>
          </a:xfrm>
          <a:custGeom>
            <a:avLst/>
            <a:gdLst>
              <a:gd name="textAreaLeft" fmla="*/ 192240 w 3940200"/>
              <a:gd name="textAreaRight" fmla="*/ 3747960 w 3940200"/>
              <a:gd name="textAreaTop" fmla="*/ 192240 h 3941640"/>
              <a:gd name="textAreaBottom" fmla="*/ 3749400 h 394164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b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06"/>
          <p:cNvSpPr/>
          <p:nvPr/>
        </p:nvSpPr>
        <p:spPr>
          <a:xfrm>
            <a:off x="17640" y="668160"/>
            <a:ext cx="12174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norama da proteção previdenciária da população ocupada com idade entre 16 e 59 anos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07"/>
          <p:cNvSpPr/>
          <p:nvPr/>
        </p:nvSpPr>
        <p:spPr>
          <a:xfrm>
            <a:off x="8874000" y="5621400"/>
            <a:ext cx="2982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Micro dados PNAD Contínua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Nota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Na PNAD Contínua essas pessoas se autodeclaram não contribuint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pt-BR" sz="1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Inclui 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906.395</a:t>
            </a: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 desprotegidos com rendimento ignorado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09"/>
          <p:cNvSpPr/>
          <p:nvPr/>
        </p:nvSpPr>
        <p:spPr>
          <a:xfrm>
            <a:off x="1008000" y="3933720"/>
            <a:ext cx="3206880" cy="916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s Regi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Próprios Militar e  Estatutá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7,4 milhõ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10"/>
          <p:cNvSpPr/>
          <p:nvPr/>
        </p:nvSpPr>
        <p:spPr>
          <a:xfrm>
            <a:off x="1003320" y="2997360"/>
            <a:ext cx="3206880" cy="9158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CONTRIBUINTES do 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de Previdência Social – R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48,2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11"/>
          <p:cNvSpPr/>
          <p:nvPr/>
        </p:nvSpPr>
        <p:spPr>
          <a:xfrm>
            <a:off x="1003320" y="4869000"/>
            <a:ext cx="3206880" cy="917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SEGURADOS ESPECIAIS</a:t>
            </a:r>
            <a:r>
              <a:rPr b="0" lang="pt-BR" sz="14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Regime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812"/>
          <p:cNvSpPr/>
          <p:nvPr/>
        </p:nvSpPr>
        <p:spPr>
          <a:xfrm>
            <a:off x="1009800" y="6000840"/>
            <a:ext cx="3301920" cy="6379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NÃO CONTRIBUIN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2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10"/>
          <p:cNvSpPr/>
          <p:nvPr/>
        </p:nvSpPr>
        <p:spPr>
          <a:xfrm>
            <a:off x="5557680" y="3019320"/>
            <a:ext cx="2664000" cy="846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BENEFICI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Calibri"/>
              </a:rPr>
              <a:t>800 m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810"/>
          <p:cNvSpPr/>
          <p:nvPr/>
        </p:nvSpPr>
        <p:spPr>
          <a:xfrm>
            <a:off x="5442120" y="4148280"/>
            <a:ext cx="2828880" cy="110016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DESPROTEGIDOS</a:t>
            </a:r>
            <a:r>
              <a:rPr b="1" lang="pt-BR" sz="1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24,2 milhões (29,1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10"/>
          <p:cNvSpPr/>
          <p:nvPr/>
        </p:nvSpPr>
        <p:spPr>
          <a:xfrm>
            <a:off x="4727520" y="5653080"/>
            <a:ext cx="194472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&lt; 1 SALÁRIO MÍNI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7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10"/>
          <p:cNvSpPr/>
          <p:nvPr/>
        </p:nvSpPr>
        <p:spPr>
          <a:xfrm>
            <a:off x="6743880" y="5653080"/>
            <a:ext cx="2052360" cy="1160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IGUAL OU MAIOR 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 SALÁRIO MÍNI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11,5 milhõ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Conector de seta reta 31"/>
          <p:cNvCxnSpPr>
            <a:stCxn id="269" idx="5"/>
            <a:endCxn id="270" idx="2"/>
          </p:cNvCxnSpPr>
          <p:nvPr/>
        </p:nvCxnSpPr>
        <p:spPr>
          <a:xfrm flipV="1">
            <a:off x="4311360" y="3547800"/>
            <a:ext cx="1246680" cy="26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Conector de seta reta 44"/>
          <p:cNvCxnSpPr>
            <a:stCxn id="271" idx="3"/>
            <a:endCxn id="273" idx="0"/>
          </p:cNvCxnSpPr>
          <p:nvPr/>
        </p:nvCxnSpPr>
        <p:spPr>
          <a:xfrm>
            <a:off x="6719400" y="5248440"/>
            <a:ext cx="11962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Conector de seta reta 46"/>
          <p:cNvCxnSpPr>
            <a:stCxn id="271" idx="3"/>
            <a:endCxn id="272" idx="0"/>
          </p:cNvCxnSpPr>
          <p:nvPr/>
        </p:nvCxnSpPr>
        <p:spPr>
          <a:xfrm flipH="1">
            <a:off x="5844600" y="5248440"/>
            <a:ext cx="87516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Conector de seta reta 182"/>
          <p:cNvCxnSpPr>
            <a:stCxn id="269" idx="5"/>
          </p:cNvCxnSpPr>
          <p:nvPr/>
        </p:nvCxnSpPr>
        <p:spPr>
          <a:xfrm flipV="1">
            <a:off x="4311720" y="4822560"/>
            <a:ext cx="113400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Conector reto 124"/>
          <p:cNvSpPr/>
          <p:nvPr/>
        </p:nvSpPr>
        <p:spPr>
          <a:xfrm flipH="1">
            <a:off x="892080" y="2901960"/>
            <a:ext cx="7920" cy="29019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onector reto 132"/>
          <p:cNvSpPr/>
          <p:nvPr/>
        </p:nvSpPr>
        <p:spPr>
          <a:xfrm>
            <a:off x="892080" y="2916360"/>
            <a:ext cx="9417240" cy="79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ector reto 135"/>
          <p:cNvSpPr/>
          <p:nvPr/>
        </p:nvSpPr>
        <p:spPr>
          <a:xfrm flipV="1">
            <a:off x="892080" y="5803920"/>
            <a:ext cx="3497400" cy="223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onector reto 137"/>
          <p:cNvSpPr/>
          <p:nvPr/>
        </p:nvSpPr>
        <p:spPr>
          <a:xfrm>
            <a:off x="4510080" y="3738600"/>
            <a:ext cx="0" cy="4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Conector de seta reta 160"/>
          <p:cNvCxnSpPr>
            <a:endCxn id="283" idx="0"/>
          </p:cNvCxnSpPr>
          <p:nvPr/>
        </p:nvCxnSpPr>
        <p:spPr>
          <a:xfrm flipH="1">
            <a:off x="10314720" y="2911320"/>
            <a:ext cx="10440" cy="1254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4" name="Retângulo de cantos arredondados 2104387"/>
          <p:cNvSpPr/>
          <p:nvPr/>
        </p:nvSpPr>
        <p:spPr>
          <a:xfrm>
            <a:off x="122400" y="1844640"/>
            <a:ext cx="4965480" cy="55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1d1ff"/>
              </a:gs>
              <a:gs pos="100000">
                <a:srgbClr val="e4f2ff"/>
              </a:gs>
            </a:gsLst>
            <a:lin ang="16200000"/>
          </a:gradFill>
          <a:ln w="9360">
            <a:solidFill>
              <a:srgbClr val="5d9ac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opulação ocupada de 16 a 59 anos: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83,1 milh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reto 2104437"/>
          <p:cNvSpPr/>
          <p:nvPr/>
        </p:nvSpPr>
        <p:spPr>
          <a:xfrm>
            <a:off x="4330800" y="2901960"/>
            <a:ext cx="28440" cy="2887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810"/>
          <p:cNvSpPr/>
          <p:nvPr/>
        </p:nvSpPr>
        <p:spPr>
          <a:xfrm>
            <a:off x="8858160" y="4165560"/>
            <a:ext cx="2638440" cy="11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85db1"/>
              </a:gs>
              <a:gs pos="100000">
                <a:srgbClr val="0a7bed"/>
              </a:gs>
            </a:gsLst>
            <a:lin ang="16200000"/>
          </a:gradFill>
          <a:ln w="9360">
            <a:solidFill>
              <a:srgbClr val="247cd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SOCIAL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OTEGI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58,9 milhões (70,9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Conector de seta reta 69"/>
          <p:cNvCxnSpPr>
            <a:stCxn id="270" idx="5"/>
          </p:cNvCxnSpPr>
          <p:nvPr/>
        </p:nvCxnSpPr>
        <p:spPr>
          <a:xfrm>
            <a:off x="8221680" y="3336480"/>
            <a:ext cx="2099520" cy="396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7" name="Seta para baixo 1"/>
          <p:cNvSpPr/>
          <p:nvPr/>
        </p:nvSpPr>
        <p:spPr>
          <a:xfrm>
            <a:off x="2495520" y="2492280"/>
            <a:ext cx="287280" cy="289080"/>
          </a:xfrm>
          <a:prstGeom prst="downArrow">
            <a:avLst>
              <a:gd name="adj1" fmla="val 50000"/>
              <a:gd name="adj2" fmla="val 50313"/>
            </a:avLst>
          </a:prstGeom>
          <a:solidFill>
            <a:srgbClr val="4a66ac"/>
          </a:solidFill>
          <a:ln w="25560">
            <a:solidFill>
              <a:srgbClr val="34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055520" y="907920"/>
            <a:ext cx="100807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roteção previdenciária da população ocupada com idade entre 16 e 59 anos, por UF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tângulo 4"/>
          <p:cNvSpPr/>
          <p:nvPr/>
        </p:nvSpPr>
        <p:spPr>
          <a:xfrm>
            <a:off x="2711520" y="6165720"/>
            <a:ext cx="85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Gráfico 5" descr=""/>
          <p:cNvPicPr/>
          <p:nvPr/>
        </p:nvPicPr>
        <p:blipFill>
          <a:blip r:embed="rId1"/>
          <a:stretch/>
        </p:blipFill>
        <p:spPr>
          <a:xfrm>
            <a:off x="768240" y="1579680"/>
            <a:ext cx="1072836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479520" y="6308640"/>
            <a:ext cx="1130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c/IBGE – 2017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1055520" y="692280"/>
            <a:ext cx="1008072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ção previdenciária da população ocupada com idade entre 16 e 59 anos, por idade e sexo, Brasil – 2017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Gráfico 6" descr=""/>
          <p:cNvPicPr/>
          <p:nvPr/>
        </p:nvPicPr>
        <p:blipFill>
          <a:blip r:embed="rId1"/>
          <a:stretch/>
        </p:blipFill>
        <p:spPr>
          <a:xfrm>
            <a:off x="1274760" y="2060640"/>
            <a:ext cx="9863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1055520" y="2421000"/>
            <a:ext cx="1008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</a:rPr>
              <a:t>1.2 Perfil da população ocupada com idade entre 16 e 59 anos, Brasil -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5"/>
          <p:cNvSpPr/>
          <p:nvPr/>
        </p:nvSpPr>
        <p:spPr>
          <a:xfrm>
            <a:off x="1055520" y="692280"/>
            <a:ext cx="10080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proteção de pessoas ocupadas com idade entre 16 e 59 anos por grupo de atividade, Brasil -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8600" y="6237360"/>
            <a:ext cx="754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.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Gráfico 5" descr=""/>
          <p:cNvPicPr/>
          <p:nvPr/>
        </p:nvPicPr>
        <p:blipFill>
          <a:blip r:embed="rId1"/>
          <a:stretch/>
        </p:blipFill>
        <p:spPr>
          <a:xfrm>
            <a:off x="981000" y="2060640"/>
            <a:ext cx="105886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9075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  <a:ea typeface="Arial"/>
              </a:rPr>
              <a:t>Percentual de proteção de pessoas ocupadas por escolaridade, Brasil - 20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Espaço Reservado para Conteúdo 4" descr=""/>
          <p:cNvPicPr/>
          <p:nvPr/>
        </p:nvPicPr>
        <p:blipFill>
          <a:blip r:embed="rId1"/>
          <a:stretch/>
        </p:blipFill>
        <p:spPr>
          <a:xfrm>
            <a:off x="609480" y="2114640"/>
            <a:ext cx="10972800" cy="44258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9"/>
          <p:cNvSpPr/>
          <p:nvPr/>
        </p:nvSpPr>
        <p:spPr>
          <a:xfrm>
            <a:off x="731880" y="6308640"/>
            <a:ext cx="1072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Fonte: PNAD Contínua/IBGE – 2017 /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055520" y="2349360"/>
            <a:ext cx="1008072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"/>
                <a:ea typeface="Arabic Typesetting"/>
              </a:rPr>
              <a:t>Perfil da população brasileira ocupada, sem proteção previdenciária e com capacidade contribu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8-12-05T19:37:39Z</dcterms:modified>
  <cp:revision>697</cp:revision>
  <dc:subject/>
  <dc:title>Demografia</dc:title>
</cp:coreProperties>
</file>